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3714-40F4-4C90-B591-3C200BE14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1597D060-D1AD-4852-8E46-1FDB7D016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7680" y="689040"/>
            <a:ext cx="4565880" cy="342576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E868FBB-6338-4BA7-9FDA-B26025CF1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7680" y="689040"/>
            <a:ext cx="4565880" cy="342576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613A67D-6DF4-44E1-9023-466A85EA5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7680" y="689040"/>
            <a:ext cx="4565880" cy="342576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15945020-628F-4AEA-84BA-3E30E3EB5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7680" y="689040"/>
            <a:ext cx="4565880" cy="342576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DDE-F45A-4E8E-BBAE-810F357D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D3F7-1403-47B0-B821-04349623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AE57-3FB7-4243-95F7-2C9A6E1E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8D40-9E72-4CA0-8099-B83DB206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803-698C-4BBA-A71B-811CF29B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FBA2-5E47-4655-9A3B-CC7208D4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F175-2547-4CA3-A1B7-0FDA7EF7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3B2-3526-4D1A-836D-DB629139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FB66-9609-4AAD-AFDC-A1D51B45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FCCA-9F1F-4D7E-9ABF-1C08A395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C3D5-1D92-410B-9B25-1BF7C2D7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02C-5D3C-415A-A9B9-C1218552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AEDF-3509-4F4D-B534-EA3113554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NYRIC VoIP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1295280"/>
            <a:ext cx="8382240" cy="4191120"/>
          </a:xfrm>
          <a:prstGeom prst="rect">
            <a:avLst/>
          </a:prstGeom>
          <a:gradFill rotWithShape="0">
            <a:gsLst>
              <a:gs pos="0">
                <a:srgbClr val="e2e2f6">
                  <a:alpha val="26274"/>
                </a:srgbClr>
              </a:gs>
              <a:gs pos="100000">
                <a:srgbClr val="f5f5fc">
                  <a:alpha val="29019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VoIP systems with WNYRIC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with e-mail to provide unified communications and real-time collaboration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-mail integrated into 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o and video conference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top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capability with Lotus Sam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for future cost reductions, better service levels, new applications and future offe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VoIP Ad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520" y="1371600"/>
            <a:ext cx="8077320" cy="4114800"/>
          </a:xfrm>
          <a:prstGeom prst="rect">
            <a:avLst/>
          </a:prstGeom>
          <a:gradFill rotWithShape="0">
            <a:gsLst>
              <a:gs pos="0">
                <a:srgbClr val="e2e2f6">
                  <a:alpha val="26274"/>
                </a:srgbClr>
              </a:gs>
              <a:gs pos="100000">
                <a:srgbClr val="f5f5fc">
                  <a:alpha val="29019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with Lotus Sametime (which ties into Lotus Notes and Exchange) for Unified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Pres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Instant mess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Click-to call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to portal and enable communication with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onnect with othe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 voic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E Desk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240" y="1447560"/>
            <a:ext cx="5638680" cy="3809880"/>
          </a:xfrm>
          <a:prstGeom prst="rect">
            <a:avLst/>
          </a:prstGeom>
          <a:gradFill rotWithShape="0">
            <a:gsLst>
              <a:gs pos="0">
                <a:srgbClr val="e2e2f6">
                  <a:alpha val="26274"/>
                </a:srgbClr>
              </a:gs>
              <a:gs pos="100000">
                <a:srgbClr val="f5f5fc">
                  <a:alpha val="29019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ile Communication Engin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your desktop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 Lotus Same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 + Desktop +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ly add video or other communication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2" descr=""/>
          <p:cNvPicPr/>
          <p:nvPr/>
        </p:nvPicPr>
        <p:blipFill>
          <a:blip r:embed="rId1"/>
          <a:stretch/>
        </p:blipFill>
        <p:spPr>
          <a:xfrm>
            <a:off x="5791320" y="1143000"/>
            <a:ext cx="319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E and IBM Same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240" y="1752480"/>
            <a:ext cx="3886200" cy="3810240"/>
          </a:xfrm>
          <a:prstGeom prst="rect">
            <a:avLst/>
          </a:prstGeom>
          <a:gradFill rotWithShape="0">
            <a:gsLst>
              <a:gs pos="0">
                <a:srgbClr val="e2e2f6">
                  <a:alpha val="26274"/>
                </a:srgbClr>
              </a:gs>
              <a:gs pos="100000">
                <a:srgbClr val="f5f5fc">
                  <a:alpha val="29019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from Same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tarting a conference you can Drag and Drop participants into conferenc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41529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11:56Z</dcterms:created>
  <dc:creator>Dale</dc:creator>
  <dc:description/>
  <dc:language>en-US</dc:language>
  <cp:lastModifiedBy>Dale</cp:lastModifiedBy>
  <dcterms:modified xsi:type="dcterms:W3CDTF">2009-11-16T18:46:12Z</dcterms:modified>
  <cp:revision>2</cp:revision>
  <dc:subject/>
  <dc:title>WNYRIC VoIP Services</dc:title>
</cp:coreProperties>
</file>